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137-2B1C-41DC-A3BB-179756B8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AD6-4525-4EA4-B23D-D344BA6C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4DC-E948-406A-8E44-A3879343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5DE-1472-48FF-90F7-1A514367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CCF3-5DF3-4428-AAE4-8A3D42CD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2F3F-A1A0-42DB-BE69-B9490DAE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B679-9ECE-4012-BC7A-70DE1EB0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6027-12C1-4B61-9545-8A377AC7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9AD7-47FF-4256-A9FB-51793EDA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EEBE-A421-4F2F-AC74-D814BA0D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C078-4D5E-4789-A278-AB1570FD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851-961F-48CB-BD65-0A64300B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4169-244C-4661-B01A-6F05A70E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CF4C-018F-4315-B9B3-E7C07862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A1DC-9E33-4E6F-8784-FEE60FDB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3DE8-9923-471D-97D0-80AD1726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2D93-4FA5-4728-B30B-E8C9179A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9F1-2FD6-4032-BEC9-2C74F44F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3C3-C307-43C4-B906-1F7BBC7F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10A-FD12-4A56-AA8B-EC748300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295-209E-4AAB-85DD-39BD553A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BF5-68F3-4276-81A6-BD3D6EEF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6EA-6FF4-4037-A175-F5C366A4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545-A56A-4AF4-8DC0-25793B3E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5E2B-E532-4E3F-A926-12A700DFEB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3EAA-A770-4487-9B3E-5AD20AB3A3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__      Clase 8 NM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14 de noviembre del 2011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Propósito # 14: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De 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nde es José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2895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971800"/>
            <a:ext cx="830592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Take out your textbook with a book sock, agenda, note book and pen or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Leer activamente </a:t>
            </a:r>
            <a:r>
              <a:rPr b="0" lang="es-AR" sz="3200" spc="-1" strike="noStrike">
                <a:solidFill>
                  <a:srgbClr val="0000cc"/>
                </a:solidFill>
                <a:latin typeface="Verdana"/>
              </a:rPr>
              <a:t>un repaso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pagina 65. </a:t>
            </a:r>
            <a:r>
              <a:rPr b="0" lang="es-AR" sz="3200" spc="-1" strike="noStrike">
                <a:solidFill>
                  <a:srgbClr val="ff0000"/>
                </a:solidFill>
                <a:latin typeface="Verdana"/>
              </a:rPr>
              <a:t>(4 minutos)</a:t>
            </a:r>
            <a:r>
              <a:rPr b="0" lang="es-AR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Verdana"/>
              </a:rPr>
              <a:t>Propósito # 4: ¿De donde es José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Actividad Inicial: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OPIA y respond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uál es tu asignatura favorit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Por qué te gust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Qué asignatura no te gust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Por qué no te gusta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32767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Mi asignatura favorita es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71040" y="4149720"/>
            <a:ext cx="54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Verdana"/>
              </a:rPr>
              <a:t>Me gusta……… porque es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80240" y="521640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Verdana"/>
              </a:rPr>
              <a:t>No me gusta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8000" y="6283440"/>
            <a:ext cx="54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Verdana"/>
              </a:rPr>
              <a:t>No me gusta porque es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76320"/>
            <a:ext cx="7313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aso de la Tarea 3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79246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kbook p. 6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er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A. En la escue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Ejercicio B: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Verdana"/>
              </a:rPr>
              <a:t>(15 minuto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209680"/>
            <a:ext cx="83818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Dónde estudian Carlos y Mar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lenguas extranjeras estudi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ómo se llama el amigo de Car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ómo enseñan los profes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iénes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(who)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acan buenas no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quiere ser Car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Para qué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(for what)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rganización quiere trabaj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Adónde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(where)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quiere viajar Juan en el futu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De qué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(about what)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hablan mucho los tres amig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2286000"/>
            <a:ext cx="7772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arlos y María estudian en una escuela secund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2666880"/>
            <a:ext cx="7772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llos estudian el español y el ital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108240"/>
            <a:ext cx="7772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l amigo de Carlos se llama Ju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565440"/>
            <a:ext cx="7772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Los profesores enseñan muy b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022640"/>
            <a:ext cx="7772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arlos y María sacan buenas no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419720"/>
            <a:ext cx="7772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Carlos quiere ser embaj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937040"/>
            <a:ext cx="7772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María quiere trabajar para las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5699160"/>
            <a:ext cx="7772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Juan quiere viajar a Fr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6156360"/>
            <a:ext cx="7772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Los tres amigos hablan mucho sobre sus planes para el fut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79200"/>
            <a:ext cx="73134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Tex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eer </a:t>
            </a: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Lectura, pt. I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p.141, en voz alt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pia y completa</a:t>
            </a: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 Comprensión de lectura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p. 141-142 (1-8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WORKBOOK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pleta p. 6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3505320"/>
            <a:ext cx="73134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area #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1:12:22Z</dcterms:created>
  <dc:creator>Helen Zumaeta</dc:creator>
  <dc:description/>
  <dc:language>en-US</dc:language>
  <cp:lastModifiedBy>NYCDOE</cp:lastModifiedBy>
  <dcterms:modified xsi:type="dcterms:W3CDTF">2011-11-14T18:30:34Z</dcterms:modified>
  <cp:revision>4</cp:revision>
  <dc:subject/>
  <dc:title>Me llamo ____________      Clase 10NM La fecha es el 28 de septiembre del 2011</dc:title>
</cp:coreProperties>
</file>